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E33-C46E-48A6-9379-48E93794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C30-3255-4EA2-91C0-71D533C0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AB4BC-38D9-4687-8051-C7FBF0A6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18E98-3343-456E-A5E2-0BADB0A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6E2D7-E4E2-4804-961F-63E49B8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7B80C-2C6C-4D6B-960D-5B07A9F7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B086C-668E-41AE-97BA-23DB82C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50F18-9856-41D0-BF49-B4B925B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B50E0-1261-49F9-8071-8C79B94B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1EC2-2D42-48D8-A56B-FA554272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9EB18-1D4A-4481-82FB-9E69EF8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1CE9-444C-4DED-BA80-08F09164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08D-BFE9-4AE8-865D-51C86867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D70D4-0BB7-436F-9F06-26A2803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DE49F-9A7B-4410-B260-E8092DCA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4A131-2ED8-459A-8EAE-1D66274E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FEFB8-4EE0-44DF-9914-9EFFB63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04DC1-D594-48E9-9949-4951C4C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0C239-393A-4C7A-8A5E-B2A691F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5D6B8-777A-49D5-B807-4AEEC58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5D03-A48A-4968-A580-AE695DC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E8E1D-FF10-4C47-895A-97457B72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2EF73-3D3B-4704-9EE4-B2A4D396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915-0ED7-433C-9172-4385035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7DD55-89F9-4FF3-856E-0CDBA317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3D3A8-7FCE-420E-BA71-C3DD7695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A37E4-B7B2-4EC2-806D-338D74D2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550AF-3B14-496A-B9F8-551516E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92A24-B85C-4406-A8FE-47167BA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5ED8D-57BB-43B9-9F49-C5EDB0F9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51EEC-C3C3-49AA-AC0B-7F9982DE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E51A6-81CD-4FFD-921B-161ED4D7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D7D67-224D-45F8-BEAB-88180F4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FA21-F748-4B02-880F-B4A5C26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A1B8-7777-437C-A9E5-5DDED822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F93C-2624-4282-8BED-24957268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BC683-F0AC-4B2A-B881-0E5A5AB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ADA8C-3B39-434A-906A-3163BB9A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2EE42-4F65-4B20-ACB4-F598EAC5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9FEDF-DC68-48A9-8B11-4E2D6EC7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27878-7810-4C2C-9776-2CF9E655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F71F8-D048-4E44-AA30-ED2C495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AB707-E445-454F-98CF-AF93E28E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DE6CC-461E-44AB-836E-0698D841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9A830-5F7F-4BEF-B559-40943B5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99F1-58C6-4D41-A9F4-6D0A7A1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E62E-C37E-4F8F-9BD2-DBC1C05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5A9AB-EB77-49DA-94C3-5DB2DD6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38912-0122-41B9-83BC-3F90132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AF992-B639-4471-B3F9-09072E98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02A81-7020-4327-8D07-872431FF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AE8-7249-4ECE-B467-E6C6A3A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A9ED-5122-44EF-898B-8004F0C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6851-0925-4438-992A-BC8D033B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9871-9F22-472C-B0A7-012D9E9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C0DD-3917-4BF6-B0C2-A326496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A8C-8927-4BDC-B251-B056FEEA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42A5-18F5-4715-98D7-827F470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B527-1C53-40C5-8308-740537F5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A524-2F32-490A-9A42-FB2782F6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63E2-214D-4782-8CDE-6942D329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569A-876C-452D-83D3-7ECA9A97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CD75-7A67-40FE-B880-C1E9F25A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C156-C358-43D7-AA3A-B30B1A07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BF1D-2810-4AEF-863B-EF31C338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4E04-A009-4257-B9E0-30C0ABC8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18B96-C566-4F41-9157-4EF03E6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8E4-B3E7-4A32-9576-6BDFA25D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BAC8-3976-437D-B7BC-647CF2A5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D9D2-BDFE-4230-8588-0B1969A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2C6A-BA96-49A2-BABC-698A159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64FD-4F06-464C-A3DA-22795BB9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915B-144B-4FCD-B3DF-64BC7FE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1E3F-D5C4-4F42-A569-D8F86004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E14F-1F3F-4A7A-A5A5-D1E156EE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3A4D-9ADD-4D8E-A387-D8F82F71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FB5D-2F1A-4BE8-8F55-65FCE2A0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09BF6-C280-4011-92DA-FA1CFA3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192-0172-4E43-BA7F-1FC9F58F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CBCE-EFF3-41E4-BA7D-BCE3D780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4D48-4392-4D82-BBE7-69F4862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B1B4-113F-4357-B783-E0CED89B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B4A5-482C-494B-A12B-7531E06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73C3-7F51-4237-A224-626D2815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5B08-B382-4B44-B572-7B27357F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64C5-F250-4ED5-B935-4E693C6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271F-BF6A-41BE-976C-B778D595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888A-D624-4791-8CE3-85581AC8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11CF-0084-4168-9549-A31EE68F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37B-344C-488A-8C96-CEB27FA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F339-C8E2-4238-BBB8-5336BD2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4DB9-5B4A-48FC-A6EF-67ABCC0C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F8D7-9627-420D-A697-84B490B2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2707-51B3-4FC8-9C55-29D6229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9D97-6DE8-4DF3-9284-20BB36F0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E706-D95B-4FC9-97A1-DF967169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11C2-0DBC-4EC6-9E0F-F3E2BD7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15F8-F052-4842-A9F5-851DCAF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6091-1FE3-452C-AEDA-A1D9206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9A4D-A786-41CF-9504-D2750747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DB5-2539-49B6-B377-ED2632A1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2BFB-7943-44EF-8CF8-68D86131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92FDB-B7FA-4215-BB46-50D581D3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86DB-0D8C-451C-8C76-1884B50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45BDC-36E7-44E3-957C-981BB45D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1358-CEB8-41E8-8028-646B7574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DF32-38EE-4A61-9716-F700AAE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93C7-8828-47A2-8D6D-88DE7375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216C9-3C6A-4AE2-8492-CC44BCE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6794-E161-4EA4-BD0E-4297522F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C8475-8B95-467F-B2B1-55F2158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520-86E0-4FEA-85EA-E2FBB99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0F49-293A-46F9-A56F-84A64EC2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9C5C-1B4A-4ABE-8122-5937019C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8B7C-DEC8-4859-ADE5-2C98D9E5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E912D-6DD7-49AA-A601-26ED32EC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D128-E068-414E-889C-9B494A1F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7E7F4-D653-414D-AB50-DFF0FF2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63534-AC11-4F40-AFFA-8142129E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CA51-B2BB-4D68-9363-7AB4BEA8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68F5-CEB3-48A6-A11F-1079DA0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3018F-6C2A-45A6-B146-358F7A3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9A5-CF23-4C01-8D62-E2D9138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677B-5C92-4024-8095-0F1353B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F0CB-5EBA-483C-9C16-EC5A1BA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25DA-028A-4507-9326-9AA8DD6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D7D3-787E-49EC-9509-2379AB28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5DC69-BE83-4D6B-9C95-D4C71348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90451-495D-47F4-8EA1-9304CA48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762A-6B1B-4423-B0C3-802C4584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1F717-C686-4085-9640-BD4DDD20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A3A51-15BE-4037-8136-334FEBD0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A498-9772-4372-8472-71AE9A31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71F-F2BB-4AD5-A9C1-B9F4564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19AE-2FE8-4A5B-A11B-7B42333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9655-EB0D-4414-ACC3-AD689B6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23858-6CB0-4465-9E7E-FC75511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9011D-F69B-435C-811A-DB62564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2F39A-343D-46A6-9840-04EF44F4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87C43-E799-420A-A8C7-94DA3008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6BBB-F17C-458D-B301-80242721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E5F94-79A9-4E80-B604-06C21ED6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3D13-9C08-4FFC-9830-67D16B1D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F0954-556B-4905-94CC-1D22D92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EA1C-C821-4DFC-8797-01D9E06B2A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075B-33AA-41C6-9CD5-1827522352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866-BD6E-4530-AB54-D7D8CC836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0E0E-FD29-4387-9762-EBAFCE7217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15C2-4834-48AC-BE52-E8EC26F293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53CA-0FD1-4A47-A14A-F807D3003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879-B32C-4D05-9CB5-F03BF32577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6209-3BF3-4886-95DA-E176D6D53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2E0-3780-4B42-8C7F-B29B2E4023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442A-0BAB-4CCB-96F1-7D3FC421A7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8ED9-144C-4128-B574-77F4A458D2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050-1F7B-4FDA-AA32-CA3763F8F2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NC.docx" TargetMode="External"/><Relationship Id="rId2" Type="http://schemas.openxmlformats.org/officeDocument/2006/relationships/hyperlink" Target="file:///PNC.docx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212760" y="1146240"/>
            <a:ext cx="9004320" cy="17431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ບບສອບຖາມສຳລັບແມ່ຍິງ</a:t>
            </a:r>
            <a:r>
              <a:rPr b="0" lang="en-US" sz="36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ານກວດສຸຂະພາບຫລັງເກີດ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6854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ານໄດ້ຮັບກວດສຸຂະພາບທັນທີີຫລັງການອອກລູກເປັນສິ່ງສຳຄັນສຳລັບສຸຂະພາບຂອງແມ່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ພື່ອສຶກສາເບິ່ງວ່າມີຜູ້ຕອບຄຳຖາມຜູ້ໃດແດ່ໄດ້ກວດສຸຂະພາບຫລັງເກີດ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ໄດ້ກວດ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ຫລັງເກີດຈັກມື້ ຫລື ຈັກອາທິດສຳລັບການກວດຄັ້ງທຳອິດ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ມ່ນໃຜເປັນຜູ້ກວດຫລັງເກີດໃຫ້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ກວດຫລັງເກີດຢູ່ສະຖານທີ່ໃດ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-171360" y="-231840"/>
            <a:ext cx="36766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ທັງໝົດ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23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ຄຳຖາມ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ຕ່ວ່າມີຫລາຍຄຳຖາມທີ່ຕ້ອງໄດ້   ໝາຍຕິກ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(</a:t>
            </a:r>
            <a:r>
              <a:rPr b="1" lang="en-GB" sz="2800" spc="-1" strike="noStrike">
                <a:solidFill>
                  <a:srgbClr val="002060"/>
                </a:solidFill>
                <a:latin typeface="Wingdings"/>
                <a:ea typeface="Wingdings"/>
              </a:rPr>
              <a:t>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) </a:t>
            </a:r>
            <a:r>
              <a:rPr b="1" lang="en-GB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ລ້ວ ຂ້າມໄປ ຕາມຄຳແນະນຳ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ຈຳເປັນຕ້ອງໄດ້ປະຕິບັດຢ່າງເຄັ່ງຄັດຕາມຄຳແນະນຳ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ຄຳຖາມເບິ່ງຄ້າຍຄືກັນ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ສະນັ້ນຈະຕ້ອງໄດ້ເອົາໃຈ່ໃສເວລາຖາມຄຳຖາມ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Rectangle 2" descr=""/>
          <p:cNvPicPr/>
          <p:nvPr/>
        </p:nvPicPr>
        <p:blipFill>
          <a:blip r:embed="rId1"/>
          <a:stretch/>
        </p:blipFill>
        <p:spPr>
          <a:xfrm>
            <a:off x="-255600" y="-79200"/>
            <a:ext cx="3303720" cy="11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5" name="Object 5"/>
          <p:cNvGraphicFramePr/>
          <p:nvPr/>
        </p:nvGraphicFramePr>
        <p:xfrm>
          <a:off x="73080" y="4343400"/>
          <a:ext cx="897084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4343400"/>
                    <a:ext cx="89708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S4 Survey Design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Rectangle 2" descr=""/>
          <p:cNvPicPr/>
          <p:nvPr/>
        </p:nvPicPr>
        <p:blipFill>
          <a:blip r:embed="rId1"/>
          <a:stretch/>
        </p:blipFill>
        <p:spPr>
          <a:xfrm>
            <a:off x="-255600" y="0"/>
            <a:ext cx="3846600" cy="1255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457200" y="228600"/>
            <a:ext cx="8686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ໂດຍທົ່ວໄປຄຳຖາມແມ່ນເລັ່ງໃສ່ການກວດສຸຂະພາບແມ່ຫລັ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ອອກລູກຢູ່ສະຖານບໍລິການສຸຂະພາບຫລືບໍ່</a:t>
            </a:r>
            <a:r>
              <a:rPr b="1" lang="en-US" sz="28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ໂຄງສ້າງແບບສອບຖາມໂດຍທົ່ວໄປມີດັ່ງນີ້</a:t>
            </a:r>
            <a:r>
              <a:rPr b="1" lang="en-US" sz="20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4267080" y="2057400"/>
            <a:ext cx="4419720" cy="4114800"/>
            <a:chOff x="4267080" y="2057400"/>
            <a:chExt cx="4419720" cy="4114800"/>
          </a:xfrm>
        </p:grpSpPr>
        <p:grpSp>
          <p:nvGrpSpPr>
            <p:cNvPr id="571" name="Group 5"/>
            <p:cNvGrpSpPr/>
            <p:nvPr/>
          </p:nvGrpSpPr>
          <p:grpSpPr>
            <a:xfrm>
              <a:off x="4267080" y="2057400"/>
              <a:ext cx="4084920" cy="4114800"/>
              <a:chOff x="4267080" y="2057400"/>
              <a:chExt cx="4084920" cy="4114800"/>
            </a:xfrm>
          </p:grpSpPr>
          <p:sp>
            <p:nvSpPr>
              <p:cNvPr id="572" name="TextBox 1"/>
              <p:cNvSpPr/>
              <p:nvPr/>
            </p:nvSpPr>
            <p:spPr>
              <a:xfrm>
                <a:off x="4959000" y="2057400"/>
                <a:ext cx="1914480" cy="698400"/>
              </a:xfrm>
              <a:prstGeom prst="rect">
                <a:avLst/>
              </a:prstGeom>
              <a:solidFill>
                <a:srgbClr val="ffffff"/>
              </a:solidFill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ຜູ້ທີ່ໄປເກີດລູກຢູ່ສະຖານທີ່ບໍລິການ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Straight Connector 11"/>
              <p:cNvSpPr/>
              <p:nvPr/>
            </p:nvSpPr>
            <p:spPr>
              <a:xfrm>
                <a:off x="5904720" y="2755800"/>
                <a:ext cx="6120" cy="45216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Box 4"/>
              <p:cNvSpPr/>
              <p:nvPr/>
            </p:nvSpPr>
            <p:spPr>
              <a:xfrm>
                <a:off x="4267080" y="3400200"/>
                <a:ext cx="671400" cy="398160"/>
              </a:xfrm>
              <a:prstGeom prst="rect">
                <a:avLst/>
              </a:prstGeom>
              <a:solidFill>
                <a:srgbClr val="ffffff"/>
              </a:solidFill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ແມ່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Box 5"/>
              <p:cNvSpPr/>
              <p:nvPr/>
            </p:nvSpPr>
            <p:spPr>
              <a:xfrm>
                <a:off x="6915240" y="3411360"/>
                <a:ext cx="857160" cy="396720"/>
              </a:xfrm>
              <a:prstGeom prst="rect">
                <a:avLst/>
              </a:prstGeom>
              <a:solidFill>
                <a:srgbClr val="ffffff"/>
              </a:solidFill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ບໍ່ແມ່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4"/>
              <p:cNvSpPr/>
              <p:nvPr/>
            </p:nvSpPr>
            <p:spPr>
              <a:xfrm>
                <a:off x="4576680" y="3197160"/>
                <a:ext cx="2668680" cy="1080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5"/>
              <p:cNvSpPr/>
              <p:nvPr/>
            </p:nvSpPr>
            <p:spPr>
              <a:xfrm>
                <a:off x="4596480" y="3197160"/>
                <a:ext cx="6120" cy="20304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6"/>
              <p:cNvSpPr/>
              <p:nvPr/>
            </p:nvSpPr>
            <p:spPr>
              <a:xfrm>
                <a:off x="7224120" y="3186000"/>
                <a:ext cx="14040" cy="16668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7"/>
              <p:cNvSpPr/>
              <p:nvPr/>
            </p:nvSpPr>
            <p:spPr>
              <a:xfrm flipH="1">
                <a:off x="7213680" y="3819600"/>
                <a:ext cx="2880" cy="33336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Box 19"/>
              <p:cNvSpPr/>
              <p:nvPr/>
            </p:nvSpPr>
            <p:spPr>
              <a:xfrm>
                <a:off x="6076800" y="4114800"/>
                <a:ext cx="2275200" cy="1101600"/>
              </a:xfrm>
              <a:prstGeom prst="rect">
                <a:avLst/>
              </a:prstGeom>
              <a:solidFill>
                <a:srgbClr val="ffffff"/>
              </a:solidFill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ນຳຜູ້ມີອາຊີບທາງດ້ານການແພ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ຫລື ພະນັກງານແພ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9"/>
              <p:cNvSpPr/>
              <p:nvPr/>
            </p:nvSpPr>
            <p:spPr>
              <a:xfrm>
                <a:off x="7213680" y="5216760"/>
                <a:ext cx="10800" cy="34272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20"/>
              <p:cNvSpPr/>
              <p:nvPr/>
            </p:nvSpPr>
            <p:spPr>
              <a:xfrm flipV="1">
                <a:off x="6118200" y="5550120"/>
                <a:ext cx="2160720" cy="936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21"/>
              <p:cNvSpPr/>
              <p:nvPr/>
            </p:nvSpPr>
            <p:spPr>
              <a:xfrm>
                <a:off x="6117480" y="5570640"/>
                <a:ext cx="4680" cy="20448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22"/>
              <p:cNvSpPr/>
              <p:nvPr/>
            </p:nvSpPr>
            <p:spPr>
              <a:xfrm>
                <a:off x="8268840" y="5550120"/>
                <a:ext cx="4680" cy="203040"/>
              </a:xfrm>
              <a:prstGeom prst="line">
                <a:avLst/>
              </a:prstGeom>
              <a:ln w="6336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Box 36"/>
              <p:cNvSpPr/>
              <p:nvPr/>
            </p:nvSpPr>
            <p:spPr>
              <a:xfrm>
                <a:off x="5797440" y="5775480"/>
                <a:ext cx="671400" cy="396720"/>
              </a:xfrm>
              <a:prstGeom prst="rect">
                <a:avLst/>
              </a:prstGeom>
              <a:solidFill>
                <a:srgbClr val="ffffff"/>
              </a:solidFill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aysettha Unicode"/>
                    <a:cs typeface="Saysettha Unicode"/>
                  </a:rPr>
                  <a:t>ແມ່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Box 37"/>
            <p:cNvSpPr/>
            <p:nvPr/>
          </p:nvSpPr>
          <p:spPr>
            <a:xfrm>
              <a:off x="7848720" y="5753160"/>
              <a:ext cx="838080" cy="396720"/>
            </a:xfrm>
            <a:prstGeom prst="rect">
              <a:avLst/>
            </a:prstGeom>
            <a:solidFill>
              <a:srgbClr val="ffffff"/>
            </a:solidFill>
            <a:ln w="5508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aysettha Unicode"/>
                  <a:cs typeface="Saysettha Unicode"/>
                </a:rPr>
                <a:t>ບໍ່ແມ່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4560" y="56383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360360" indent="-360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Saysettha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ສະນັ້ນ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ເບິ່ງຄືມີຫລາຍຄຳຖາມ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ແຕ່ໃນຕົວຈິງ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ຖ້າທ່ານປະຕິບັດຕາມຄຳແນະນຳ ການຂ້າມຄຳຖາມຢ່າງຖືກຕ້ອງ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cs typeface="Saysettha Unicode"/>
              </a:rPr>
              <a:t>ມັນເປັນຄຳຖາມທີ່ສາມາດຄຸ້ມຄອງໄດ້</a:t>
            </a:r>
            <a:r>
              <a:rPr b="1" lang="en-US" sz="2400" spc="-1" strike="noStrike">
                <a:solidFill>
                  <a:srgbClr val="002060"/>
                </a:solidFill>
                <a:latin typeface="Saysettha Unicode"/>
                <a:ea typeface="Saysettha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8" name="Object 20"/>
          <p:cNvGraphicFramePr/>
          <p:nvPr/>
        </p:nvGraphicFramePr>
        <p:xfrm>
          <a:off x="301680" y="73080"/>
          <a:ext cx="86500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73080"/>
                    <a:ext cx="86500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5"/>
          <p:cNvSpPr/>
          <p:nvPr/>
        </p:nvSpPr>
        <p:spPr>
          <a:xfrm>
            <a:off x="1143000" y="1523880"/>
            <a:ext cx="6477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ລາຍລະອຽ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ແລ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aysettha Unicode"/>
                <a:cs typeface="Saysettha Unicode"/>
              </a:rPr>
              <a:t>ການບັນທຶກໃສ່ແບບສອບຖາ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8119"/>
                </a:solidFill>
                <a:uFillTx/>
                <a:latin typeface="Wingdings"/>
                <a:ea typeface="Wingdings"/>
                <a:hlinkClick r:id="rId1"/>
              </a:rPr>
              <a:t></a:t>
            </a:r>
            <a:r>
              <a:rPr b="0" lang="en-US" sz="4000" spc="-1" strike="noStrike" u="sng">
                <a:solidFill>
                  <a:srgbClr val="ff8119"/>
                </a:solidFill>
                <a:uFillTx/>
                <a:latin typeface="Wingdings"/>
                <a:ea typeface="Wingdings"/>
                <a:hlinkClick r:id="rId2"/>
              </a:rPr>
              <a:t>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19:38:17Z</dcterms:created>
  <dc:creator>eholmberg</dc:creator>
  <dc:description/>
  <dc:language>en-US</dc:language>
  <cp:lastModifiedBy>USER</cp:lastModifiedBy>
  <dcterms:modified xsi:type="dcterms:W3CDTF">2011-09-03T11:36:40Z</dcterms:modified>
  <cp:revision>109</cp:revision>
  <dc:subject/>
  <dc:title>Slide 1</dc:title>
</cp:coreProperties>
</file>